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AF66-BEEC-4EE7-A603-6801738D9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6038-245C-47CF-8F3D-73285B98D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5CCB-0AF4-494E-B83B-887559943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72F9-62B2-48A3-89E4-E17DC68C6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DD2-3228-4F32-86DB-3AF2CD2AB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FCB6-CE41-4BFC-B444-26D4714C0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9C9F-6717-4559-89C6-B71D26185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F862-8243-498F-9368-5FBCDB482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704E-5519-4154-9CAC-D404BF113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23D2-754B-4E4A-A839-733E5894A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BD72-0FC1-4C43-8E29-86C4F428D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4129-2FAA-4966-ACBD-CCB35E2FD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4888-53EE-4337-A35B-367475619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3AE0-D5B9-46D4-8686-C7E5A88FB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DD8B-DF1E-491D-85AE-476539E31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F941-1962-4FB3-9BB3-513935782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32AB-B688-4520-BD3C-8933BA715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3695-A2B5-4BF4-83E2-3ADC9E897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A514-D428-4691-8927-D1B5A5850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A112-7807-4B2C-B843-1A4E2F033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D480-E2A7-40D3-A83C-8C08D91AF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95F5-8504-4F57-B346-8F2522DA8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73B6-1176-4BA1-BA95-952B3FFFA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75E8-229A-4A15-9355-7241F2FEA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C5BB-FBB0-4B0F-AAEB-D346B72C7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307-528C-4476-A5E8-DE21A4A1B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8E5D-906E-4928-92C4-C83C8C98D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DA56-D858-45F9-AF51-DEC581A7D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80E-46C2-4B54-B0FB-3148BB16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085-5220-4C26-961F-5346174A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148-4570-446A-87F6-B3552573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735-3F0C-4333-B5D2-2C63417E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E9E-A2E5-4331-AF58-4954B005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C41-667D-4773-9752-AB5603E0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A56-C5BF-4276-A15C-3895EC43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0E1-D33E-4364-B013-C4C29E9D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328-609C-425D-AD26-2F612958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B56-DBC2-4F41-B649-A251BEE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438-B005-4F2F-B985-5E803F39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696-CED6-4122-920C-41F10C1F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EE5D-4F2B-4D86-A3CB-58A0B0222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3.xml"/><Relationship Id="rId7" Type="http://schemas.openxmlformats.org/officeDocument/2006/relationships/image" Target="../media/image5.png"/><Relationship Id="rId8" Type="http://schemas.openxmlformats.org/officeDocument/2006/relationships/slide" Target="slide4.xml"/><Relationship Id="rId9" Type="http://schemas.openxmlformats.org/officeDocument/2006/relationships/image" Target="../media/image6.png"/><Relationship Id="rId10" Type="http://schemas.openxmlformats.org/officeDocument/2006/relationships/slide" Target="slide5.xml"/><Relationship Id="rId11" Type="http://schemas.openxmlformats.org/officeDocument/2006/relationships/image" Target="../media/image5.png"/><Relationship Id="rId12" Type="http://schemas.openxmlformats.org/officeDocument/2006/relationships/slide" Target="slide6.xml"/><Relationship Id="rId13" Type="http://schemas.openxmlformats.org/officeDocument/2006/relationships/image" Target="../media/image6.png"/><Relationship Id="rId14" Type="http://schemas.openxmlformats.org/officeDocument/2006/relationships/slide" Target="slide7.xml"/><Relationship Id="rId15" Type="http://schemas.openxmlformats.org/officeDocument/2006/relationships/image" Target="../media/image5.png"/><Relationship Id="rId16" Type="http://schemas.openxmlformats.org/officeDocument/2006/relationships/slide" Target="slide11.xml"/><Relationship Id="rId17" Type="http://schemas.openxmlformats.org/officeDocument/2006/relationships/image" Target="../media/image7.png"/><Relationship Id="rId18" Type="http://schemas.openxmlformats.org/officeDocument/2006/relationships/slide" Target="slide10.xml"/><Relationship Id="rId19" Type="http://schemas.openxmlformats.org/officeDocument/2006/relationships/image" Target="../media/image8.png"/><Relationship Id="rId20" Type="http://schemas.openxmlformats.org/officeDocument/2006/relationships/slide" Target="slide9.xml"/><Relationship Id="rId21" Type="http://schemas.openxmlformats.org/officeDocument/2006/relationships/image" Target="../media/image7.png"/><Relationship Id="rId22" Type="http://schemas.openxmlformats.org/officeDocument/2006/relationships/slide" Target="slide8.xml"/><Relationship Id="rId23" Type="http://schemas.openxmlformats.org/officeDocument/2006/relationships/image" Target="../media/image8.png"/><Relationship Id="rId24" Type="http://schemas.openxmlformats.org/officeDocument/2006/relationships/slide" Target="slide12.xml"/><Relationship Id="rId25" Type="http://schemas.openxmlformats.org/officeDocument/2006/relationships/image" Target="../media/image8.png"/><Relationship Id="rId26" Type="http://schemas.openxmlformats.org/officeDocument/2006/relationships/slide" Target="slide17.xml"/><Relationship Id="rId27" Type="http://schemas.openxmlformats.org/officeDocument/2006/relationships/image" Target="../media/image5.png"/><Relationship Id="rId28" Type="http://schemas.openxmlformats.org/officeDocument/2006/relationships/slide" Target="slide16.xml"/><Relationship Id="rId29" Type="http://schemas.openxmlformats.org/officeDocument/2006/relationships/image" Target="../media/image6.png"/><Relationship Id="rId30" Type="http://schemas.openxmlformats.org/officeDocument/2006/relationships/slide" Target="slide15.xml"/><Relationship Id="rId31" Type="http://schemas.openxmlformats.org/officeDocument/2006/relationships/image" Target="../media/image5.png"/><Relationship Id="rId32" Type="http://schemas.openxmlformats.org/officeDocument/2006/relationships/slide" Target="slide14.xml"/><Relationship Id="rId33" Type="http://schemas.openxmlformats.org/officeDocument/2006/relationships/image" Target="../media/image6.png"/><Relationship Id="rId34" Type="http://schemas.openxmlformats.org/officeDocument/2006/relationships/slide" Target="slide13.xml"/><Relationship Id="rId35" Type="http://schemas.openxmlformats.org/officeDocument/2006/relationships/image" Target="../media/image5.png"/><Relationship Id="rId36" Type="http://schemas.openxmlformats.org/officeDocument/2006/relationships/slide" Target="slide22.xml"/><Relationship Id="rId37" Type="http://schemas.openxmlformats.org/officeDocument/2006/relationships/image" Target="../media/image8.png"/><Relationship Id="rId38" Type="http://schemas.openxmlformats.org/officeDocument/2006/relationships/slide" Target="slide21.xml"/><Relationship Id="rId39" Type="http://schemas.openxmlformats.org/officeDocument/2006/relationships/image" Target="../media/image7.png"/><Relationship Id="rId40" Type="http://schemas.openxmlformats.org/officeDocument/2006/relationships/slide" Target="slide20.xml"/><Relationship Id="rId41" Type="http://schemas.openxmlformats.org/officeDocument/2006/relationships/image" Target="../media/image8.png"/><Relationship Id="rId42" Type="http://schemas.openxmlformats.org/officeDocument/2006/relationships/slide" Target="slide19.xml"/><Relationship Id="rId43" Type="http://schemas.openxmlformats.org/officeDocument/2006/relationships/image" Target="../media/image7.png"/><Relationship Id="rId44" Type="http://schemas.openxmlformats.org/officeDocument/2006/relationships/slide" Target="slide18.xml"/><Relationship Id="rId45" Type="http://schemas.openxmlformats.org/officeDocument/2006/relationships/image" Target="../media/image8.png"/><Relationship Id="rId46" Type="http://schemas.openxmlformats.org/officeDocument/2006/relationships/slide" Target="slide27.xml"/><Relationship Id="rId47" Type="http://schemas.openxmlformats.org/officeDocument/2006/relationships/image" Target="../media/image5.png"/><Relationship Id="rId48" Type="http://schemas.openxmlformats.org/officeDocument/2006/relationships/slide" Target="slide26.xml"/><Relationship Id="rId49" Type="http://schemas.openxmlformats.org/officeDocument/2006/relationships/image" Target="../media/image6.png"/><Relationship Id="rId50" Type="http://schemas.openxmlformats.org/officeDocument/2006/relationships/slide" Target="slide25.xml"/><Relationship Id="rId51" Type="http://schemas.openxmlformats.org/officeDocument/2006/relationships/image" Target="../media/image5.png"/><Relationship Id="rId52" Type="http://schemas.openxmlformats.org/officeDocument/2006/relationships/slide" Target="slide24.xml"/><Relationship Id="rId53" Type="http://schemas.openxmlformats.org/officeDocument/2006/relationships/image" Target="../media/image6.png"/><Relationship Id="rId54" Type="http://schemas.openxmlformats.org/officeDocument/2006/relationships/slide" Target="slide23.xml"/><Relationship Id="rId55" Type="http://schemas.openxmlformats.org/officeDocument/2006/relationships/image" Target="../media/image5.png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JeopardyIcon3.png"/>
          <p:cNvPicPr/>
          <p:nvPr/>
        </p:nvPicPr>
        <p:blipFill>
          <a:blip r:embed="rId1"/>
          <a:stretch/>
        </p:blipFill>
        <p:spPr>
          <a:xfrm>
            <a:off x="380880" y="0"/>
            <a:ext cx="841212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93600" y="4194000"/>
            <a:ext cx="7083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7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7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>
            <a:off x="533520" y="1371600"/>
            <a:ext cx="82296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outh Africa is larger than these two states comb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alifornia and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8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"/>
          <p:cNvSpPr/>
          <p:nvPr/>
        </p:nvSpPr>
        <p:spPr>
          <a:xfrm>
            <a:off x="533520" y="1371600"/>
            <a:ext cx="82296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frican music often uses rich ____________ harm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V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8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4"/>
          <p:cNvSpPr/>
          <p:nvPr/>
        </p:nvSpPr>
        <p:spPr>
          <a:xfrm>
            <a:off x="533520" y="1371600"/>
            <a:ext cx="8229600" cy="36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is African instrument has been changed a lot and used often in Western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ari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9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9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dian scales are called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9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9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ala are patterns that involve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hy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0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0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Bollywood is best know for creating this type of fil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us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0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0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is is India’s most famous instrument. It is a large stringed instr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1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1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is famous Indian musician was best know for playing with the Beat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avi 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1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1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pentatonic scale has how many notes in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2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China is one of the oldest civilizations on the pla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unded Rectangle 5"/>
          <p:cNvGrpSpPr/>
          <p:nvPr/>
        </p:nvGrpSpPr>
        <p:grpSpPr>
          <a:xfrm>
            <a:off x="7182000" y="566640"/>
            <a:ext cx="1796760" cy="689040"/>
            <a:chOff x="7182000" y="566640"/>
            <a:chExt cx="1796760" cy="689040"/>
          </a:xfrm>
        </p:grpSpPr>
        <p:pic>
          <p:nvPicPr>
            <p:cNvPr id="5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182000" y="566640"/>
              <a:ext cx="1796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2644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Jap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6"/>
          <p:cNvGrpSpPr/>
          <p:nvPr/>
        </p:nvGrpSpPr>
        <p:grpSpPr>
          <a:xfrm>
            <a:off x="171360" y="566640"/>
            <a:ext cx="1797120" cy="689040"/>
            <a:chOff x="171360" y="566640"/>
            <a:chExt cx="1797120" cy="689040"/>
          </a:xfrm>
        </p:grpSpPr>
        <p:pic>
          <p:nvPicPr>
            <p:cNvPr id="5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71360" y="566640"/>
              <a:ext cx="17971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541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Caribbe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Rounded Rectangle 7"/>
          <p:cNvGrpSpPr/>
          <p:nvPr/>
        </p:nvGrpSpPr>
        <p:grpSpPr>
          <a:xfrm>
            <a:off x="1920960" y="566640"/>
            <a:ext cx="1797120" cy="689040"/>
            <a:chOff x="1920960" y="566640"/>
            <a:chExt cx="1797120" cy="689040"/>
          </a:xfrm>
        </p:grpSpPr>
        <p:pic>
          <p:nvPicPr>
            <p:cNvPr id="5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920960" y="566640"/>
              <a:ext cx="17971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0066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8"/>
          <p:cNvGrpSpPr/>
          <p:nvPr/>
        </p:nvGrpSpPr>
        <p:grpSpPr>
          <a:xfrm>
            <a:off x="3676680" y="566640"/>
            <a:ext cx="1797120" cy="689040"/>
            <a:chOff x="3676680" y="566640"/>
            <a:chExt cx="1797120" cy="689040"/>
          </a:xfrm>
        </p:grpSpPr>
        <p:pic>
          <p:nvPicPr>
            <p:cNvPr id="60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676680" y="566640"/>
              <a:ext cx="17971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59120" y="635040"/>
              <a:ext cx="1625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n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9"/>
          <p:cNvGrpSpPr/>
          <p:nvPr/>
        </p:nvGrpSpPr>
        <p:grpSpPr>
          <a:xfrm>
            <a:off x="5425920" y="566640"/>
            <a:ext cx="1797120" cy="689040"/>
            <a:chOff x="5425920" y="566640"/>
            <a:chExt cx="1797120" cy="689040"/>
          </a:xfrm>
        </p:grpSpPr>
        <p:pic>
          <p:nvPicPr>
            <p:cNvPr id="63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25920" y="566640"/>
              <a:ext cx="17971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5119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Ch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10"/>
          <p:cNvGrpSpPr/>
          <p:nvPr/>
        </p:nvGrpSpPr>
        <p:grpSpPr>
          <a:xfrm>
            <a:off x="171360" y="1176480"/>
            <a:ext cx="1797120" cy="1188720"/>
            <a:chOff x="171360" y="1176480"/>
            <a:chExt cx="1797120" cy="1188720"/>
          </a:xfrm>
        </p:grpSpPr>
        <p:pic>
          <p:nvPicPr>
            <p:cNvPr id="66" name="Rounded Rectangl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7136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11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11"/>
          <p:cNvGrpSpPr/>
          <p:nvPr/>
        </p:nvGrpSpPr>
        <p:grpSpPr>
          <a:xfrm>
            <a:off x="171360" y="2322360"/>
            <a:ext cx="1797120" cy="1189080"/>
            <a:chOff x="171360" y="2322360"/>
            <a:chExt cx="1797120" cy="1189080"/>
          </a:xfrm>
        </p:grpSpPr>
        <p:pic>
          <p:nvPicPr>
            <p:cNvPr id="69" name="Rounded Rectangle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7136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1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ounded Rectangle 12"/>
          <p:cNvGrpSpPr/>
          <p:nvPr/>
        </p:nvGrpSpPr>
        <p:grpSpPr>
          <a:xfrm>
            <a:off x="171360" y="3462480"/>
            <a:ext cx="1797120" cy="1188720"/>
            <a:chOff x="171360" y="3462480"/>
            <a:chExt cx="1797120" cy="1188720"/>
          </a:xfrm>
        </p:grpSpPr>
        <p:pic>
          <p:nvPicPr>
            <p:cNvPr id="72" name="Rounded Rectangle 1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17136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11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ounded Rectangle 13"/>
          <p:cNvGrpSpPr/>
          <p:nvPr/>
        </p:nvGrpSpPr>
        <p:grpSpPr>
          <a:xfrm>
            <a:off x="171360" y="4608360"/>
            <a:ext cx="1797120" cy="1189080"/>
            <a:chOff x="171360" y="4608360"/>
            <a:chExt cx="1797120" cy="1189080"/>
          </a:xfrm>
        </p:grpSpPr>
        <p:pic>
          <p:nvPicPr>
            <p:cNvPr id="75" name="Rounded Rectangle 1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7136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811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ounded Rectangle 14"/>
          <p:cNvGrpSpPr/>
          <p:nvPr/>
        </p:nvGrpSpPr>
        <p:grpSpPr>
          <a:xfrm>
            <a:off x="171360" y="5748480"/>
            <a:ext cx="1797120" cy="1188720"/>
            <a:chOff x="171360" y="5748480"/>
            <a:chExt cx="1797120" cy="1188720"/>
          </a:xfrm>
        </p:grpSpPr>
        <p:pic>
          <p:nvPicPr>
            <p:cNvPr id="78" name="Rounded Rectangle 14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17136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811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ounded Rectangle 15"/>
          <p:cNvGrpSpPr/>
          <p:nvPr/>
        </p:nvGrpSpPr>
        <p:grpSpPr>
          <a:xfrm>
            <a:off x="1920960" y="4608360"/>
            <a:ext cx="1797120" cy="1189080"/>
            <a:chOff x="1920960" y="4608360"/>
            <a:chExt cx="1797120" cy="1189080"/>
          </a:xfrm>
        </p:grpSpPr>
        <p:pic>
          <p:nvPicPr>
            <p:cNvPr id="81" name="Rounded Rectangle 15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92096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0336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ounded Rectangle 16"/>
          <p:cNvGrpSpPr/>
          <p:nvPr/>
        </p:nvGrpSpPr>
        <p:grpSpPr>
          <a:xfrm>
            <a:off x="1920960" y="3462480"/>
            <a:ext cx="1797120" cy="1188720"/>
            <a:chOff x="1920960" y="3462480"/>
            <a:chExt cx="1797120" cy="1188720"/>
          </a:xfrm>
        </p:grpSpPr>
        <p:pic>
          <p:nvPicPr>
            <p:cNvPr id="84" name="Rounded Rectangle 16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92096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336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17"/>
          <p:cNvGrpSpPr/>
          <p:nvPr/>
        </p:nvGrpSpPr>
        <p:grpSpPr>
          <a:xfrm>
            <a:off x="1920960" y="2322360"/>
            <a:ext cx="1797120" cy="1189080"/>
            <a:chOff x="1920960" y="2322360"/>
            <a:chExt cx="1797120" cy="1189080"/>
          </a:xfrm>
        </p:grpSpPr>
        <p:pic>
          <p:nvPicPr>
            <p:cNvPr id="87" name="Rounded Rectangle 17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192096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336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18"/>
          <p:cNvGrpSpPr/>
          <p:nvPr/>
        </p:nvGrpSpPr>
        <p:grpSpPr>
          <a:xfrm>
            <a:off x="1920960" y="1176480"/>
            <a:ext cx="1797120" cy="1188720"/>
            <a:chOff x="1920960" y="1176480"/>
            <a:chExt cx="1797120" cy="1188720"/>
          </a:xfrm>
        </p:grpSpPr>
        <p:pic>
          <p:nvPicPr>
            <p:cNvPr id="90" name="Rounded Rectangle 18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92096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0336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19"/>
          <p:cNvGrpSpPr/>
          <p:nvPr/>
        </p:nvGrpSpPr>
        <p:grpSpPr>
          <a:xfrm>
            <a:off x="1920960" y="5748480"/>
            <a:ext cx="1797120" cy="1188720"/>
            <a:chOff x="1920960" y="5748480"/>
            <a:chExt cx="1797120" cy="1188720"/>
          </a:xfrm>
        </p:grpSpPr>
        <p:pic>
          <p:nvPicPr>
            <p:cNvPr id="93" name="Rounded Rectangle 19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92096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0336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20"/>
          <p:cNvGrpSpPr/>
          <p:nvPr/>
        </p:nvGrpSpPr>
        <p:grpSpPr>
          <a:xfrm>
            <a:off x="3676680" y="5748480"/>
            <a:ext cx="1797120" cy="1188720"/>
            <a:chOff x="3676680" y="5748480"/>
            <a:chExt cx="1797120" cy="1188720"/>
          </a:xfrm>
        </p:grpSpPr>
        <p:pic>
          <p:nvPicPr>
            <p:cNvPr id="96" name="Rounded Rectangle 20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67668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6120" y="5843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ounded Rectangle 21"/>
          <p:cNvGrpSpPr/>
          <p:nvPr/>
        </p:nvGrpSpPr>
        <p:grpSpPr>
          <a:xfrm>
            <a:off x="3676680" y="4608360"/>
            <a:ext cx="1797120" cy="1189080"/>
            <a:chOff x="3676680" y="4608360"/>
            <a:chExt cx="1797120" cy="1189080"/>
          </a:xfrm>
        </p:grpSpPr>
        <p:pic>
          <p:nvPicPr>
            <p:cNvPr id="99" name="Rounded Rectangle 21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67668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786120" y="4700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ounded Rectangle 22"/>
          <p:cNvGrpSpPr/>
          <p:nvPr/>
        </p:nvGrpSpPr>
        <p:grpSpPr>
          <a:xfrm>
            <a:off x="3676680" y="3462480"/>
            <a:ext cx="1797120" cy="1188720"/>
            <a:chOff x="3676680" y="3462480"/>
            <a:chExt cx="1797120" cy="1188720"/>
          </a:xfrm>
        </p:grpSpPr>
        <p:pic>
          <p:nvPicPr>
            <p:cNvPr id="102" name="Rounded Rectangle 22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67668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86120" y="3557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Rounded Rectangle 23"/>
          <p:cNvGrpSpPr/>
          <p:nvPr/>
        </p:nvGrpSpPr>
        <p:grpSpPr>
          <a:xfrm>
            <a:off x="3676680" y="2322360"/>
            <a:ext cx="1797120" cy="1189080"/>
            <a:chOff x="3676680" y="2322360"/>
            <a:chExt cx="1797120" cy="1189080"/>
          </a:xfrm>
        </p:grpSpPr>
        <p:pic>
          <p:nvPicPr>
            <p:cNvPr id="105" name="Rounded Rectangle 23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367668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86120" y="2414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Rounded Rectangle 24"/>
          <p:cNvGrpSpPr/>
          <p:nvPr/>
        </p:nvGrpSpPr>
        <p:grpSpPr>
          <a:xfrm>
            <a:off x="3676680" y="1176480"/>
            <a:ext cx="1797120" cy="1188720"/>
            <a:chOff x="3676680" y="1176480"/>
            <a:chExt cx="1797120" cy="1188720"/>
          </a:xfrm>
        </p:grpSpPr>
        <p:pic>
          <p:nvPicPr>
            <p:cNvPr id="108" name="Rounded Rectangle 24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367668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786120" y="1271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ounded Rectangle 25"/>
          <p:cNvGrpSpPr/>
          <p:nvPr/>
        </p:nvGrpSpPr>
        <p:grpSpPr>
          <a:xfrm>
            <a:off x="5425920" y="5748480"/>
            <a:ext cx="1797120" cy="1188720"/>
            <a:chOff x="5425920" y="5748480"/>
            <a:chExt cx="1797120" cy="1188720"/>
          </a:xfrm>
        </p:grpSpPr>
        <p:pic>
          <p:nvPicPr>
            <p:cNvPr id="111" name="Rounded Rectangle 25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42592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89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ounded Rectangle 26"/>
          <p:cNvGrpSpPr/>
          <p:nvPr/>
        </p:nvGrpSpPr>
        <p:grpSpPr>
          <a:xfrm>
            <a:off x="5425920" y="4608360"/>
            <a:ext cx="1797120" cy="1189080"/>
            <a:chOff x="5425920" y="4608360"/>
            <a:chExt cx="1797120" cy="1189080"/>
          </a:xfrm>
        </p:grpSpPr>
        <p:pic>
          <p:nvPicPr>
            <p:cNvPr id="114" name="Rounded Rectangle 26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42592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5389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ounded Rectangle 27"/>
          <p:cNvGrpSpPr/>
          <p:nvPr/>
        </p:nvGrpSpPr>
        <p:grpSpPr>
          <a:xfrm>
            <a:off x="5425920" y="3462480"/>
            <a:ext cx="1797120" cy="1188720"/>
            <a:chOff x="5425920" y="3462480"/>
            <a:chExt cx="1797120" cy="1188720"/>
          </a:xfrm>
        </p:grpSpPr>
        <p:pic>
          <p:nvPicPr>
            <p:cNvPr id="117" name="Rounded Rectangle 27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42592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389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ounded Rectangle 28"/>
          <p:cNvGrpSpPr/>
          <p:nvPr/>
        </p:nvGrpSpPr>
        <p:grpSpPr>
          <a:xfrm>
            <a:off x="5425920" y="2322360"/>
            <a:ext cx="1797120" cy="1189080"/>
            <a:chOff x="5425920" y="2322360"/>
            <a:chExt cx="1797120" cy="1189080"/>
          </a:xfrm>
        </p:grpSpPr>
        <p:pic>
          <p:nvPicPr>
            <p:cNvPr id="120" name="Rounded Rectangle 28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2592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389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ounded Rectangle 29"/>
          <p:cNvGrpSpPr/>
          <p:nvPr/>
        </p:nvGrpSpPr>
        <p:grpSpPr>
          <a:xfrm>
            <a:off x="5425920" y="1176480"/>
            <a:ext cx="1797120" cy="1188720"/>
            <a:chOff x="5425920" y="1176480"/>
            <a:chExt cx="1797120" cy="1188720"/>
          </a:xfrm>
        </p:grpSpPr>
        <p:pic>
          <p:nvPicPr>
            <p:cNvPr id="123" name="Rounded Rectangle 2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542592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5389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30"/>
          <p:cNvGrpSpPr/>
          <p:nvPr/>
        </p:nvGrpSpPr>
        <p:grpSpPr>
          <a:xfrm>
            <a:off x="7182000" y="5748480"/>
            <a:ext cx="1796760" cy="1188720"/>
            <a:chOff x="7182000" y="5748480"/>
            <a:chExt cx="1796760" cy="1188720"/>
          </a:xfrm>
        </p:grpSpPr>
        <p:pic>
          <p:nvPicPr>
            <p:cNvPr id="126" name="Rounded Rectangle 30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182000" y="5748480"/>
              <a:ext cx="17967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914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31"/>
          <p:cNvGrpSpPr/>
          <p:nvPr/>
        </p:nvGrpSpPr>
        <p:grpSpPr>
          <a:xfrm>
            <a:off x="7182000" y="4608360"/>
            <a:ext cx="1796760" cy="1189080"/>
            <a:chOff x="7182000" y="4608360"/>
            <a:chExt cx="1796760" cy="1189080"/>
          </a:xfrm>
        </p:grpSpPr>
        <p:pic>
          <p:nvPicPr>
            <p:cNvPr id="129" name="Rounded Rectangle 31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182000" y="4608360"/>
              <a:ext cx="17967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2914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32"/>
          <p:cNvGrpSpPr/>
          <p:nvPr/>
        </p:nvGrpSpPr>
        <p:grpSpPr>
          <a:xfrm>
            <a:off x="7182000" y="3462480"/>
            <a:ext cx="1796760" cy="1188720"/>
            <a:chOff x="7182000" y="3462480"/>
            <a:chExt cx="1796760" cy="1188720"/>
          </a:xfrm>
        </p:grpSpPr>
        <p:pic>
          <p:nvPicPr>
            <p:cNvPr id="132" name="Rounded Rectangle 32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182000" y="3462480"/>
              <a:ext cx="17967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2914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33"/>
          <p:cNvGrpSpPr/>
          <p:nvPr/>
        </p:nvGrpSpPr>
        <p:grpSpPr>
          <a:xfrm>
            <a:off x="7182000" y="2322360"/>
            <a:ext cx="1796760" cy="1189080"/>
            <a:chOff x="7182000" y="2322360"/>
            <a:chExt cx="1796760" cy="1189080"/>
          </a:xfrm>
        </p:grpSpPr>
        <p:pic>
          <p:nvPicPr>
            <p:cNvPr id="135" name="Rounded Rectangle 33" descr="">
              <a:hlinkClick r:id="rId52" action="ppaction://hlinksldjump"/>
            </p:cNvPr>
            <p:cNvPicPr/>
            <p:nvPr/>
          </p:nvPicPr>
          <p:blipFill>
            <a:blip r:embed="rId53"/>
            <a:stretch/>
          </p:blipFill>
          <p:spPr>
            <a:xfrm>
              <a:off x="7182000" y="2322360"/>
              <a:ext cx="17967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2914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34"/>
          <p:cNvGrpSpPr/>
          <p:nvPr/>
        </p:nvGrpSpPr>
        <p:grpSpPr>
          <a:xfrm>
            <a:off x="7182000" y="1176480"/>
            <a:ext cx="1796760" cy="1188720"/>
            <a:chOff x="7182000" y="1176480"/>
            <a:chExt cx="1796760" cy="1188720"/>
          </a:xfrm>
        </p:grpSpPr>
        <p:pic>
          <p:nvPicPr>
            <p:cNvPr id="138" name="Rounded Rectangle 34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7182000" y="1176480"/>
              <a:ext cx="17967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2914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2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___________ Party took over China and removed many freedoms and r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ommu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3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3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hinese instruments are commonly made from what two materi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ilk and Bamb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3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3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ame 3 of China’s greatest in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Gunpowder, The Compass, Paper, Pr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4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4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Japan’s islands form a/an 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rchipel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4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4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ach Taiko Drum has this many drum h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5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5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is religion is common in Japan and uses a lot of musical chan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Budd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5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5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 Shakuhachi is a Japanese flute typically made from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Bamb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6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6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akura is the festival celebrating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Japanese Cherry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533520" y="1371600"/>
            <a:ext cx="8229600" cy="36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Jamaican musicians were listening to ___________ from America, which influenced their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adio 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43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4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4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5"/>
          <p:cNvSpPr/>
          <p:nvPr/>
        </p:nvSpPr>
        <p:spPr>
          <a:xfrm>
            <a:off x="533520" y="1371600"/>
            <a:ext cx="8229600" cy="36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is style of music usually includes a horn section and guitar playing upbe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5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4"/>
          <p:cNvSpPr/>
          <p:nvPr/>
        </p:nvSpPr>
        <p:spPr>
          <a:xfrm>
            <a:off x="533520" y="1371600"/>
            <a:ext cx="8229600" cy="36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is style of music came after Ska and included a heavy bass note which would “drop” on beat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egg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5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4"/>
          <p:cNvSpPr/>
          <p:nvPr/>
        </p:nvSpPr>
        <p:spPr>
          <a:xfrm>
            <a:off x="533520" y="1371600"/>
            <a:ext cx="82296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is was the first Jamaican musical sty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6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6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4"/>
          <p:cNvSpPr/>
          <p:nvPr/>
        </p:nvSpPr>
        <p:spPr>
          <a:xfrm>
            <a:off x="533520" y="1371600"/>
            <a:ext cx="82296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oca is short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oul of Caly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6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6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4"/>
          <p:cNvSpPr/>
          <p:nvPr/>
        </p:nvSpPr>
        <p:spPr>
          <a:xfrm>
            <a:off x="533520" y="1371600"/>
            <a:ext cx="82296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was the name of the South African racial oppr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part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7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7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4"/>
          <p:cNvSpPr/>
          <p:nvPr/>
        </p:nvSpPr>
        <p:spPr>
          <a:xfrm>
            <a:off x="533520" y="1371600"/>
            <a:ext cx="8229600" cy="36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is is a traditional African drum that is popular arou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Djem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22:09:44Z</dcterms:created>
  <dc:creator>Educational Technology Network</dc:creator>
  <dc:description>www.edtechnetwork.com</dc:description>
  <cp:keywords>Jeopardy Powerpoint Template;Educational Technology</cp:keywords>
  <dc:language>en-US</dc:language>
  <cp:lastModifiedBy>Windows User</cp:lastModifiedBy>
  <dcterms:modified xsi:type="dcterms:W3CDTF">2014-10-13T13:15:44Z</dcterms:modified>
  <cp:revision>29</cp:revision>
  <dc:subject>Jeopardy Template</dc:subject>
  <dc:title>POWERPOINT 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2161033</vt:lpwstr>
  </property>
</Properties>
</file>